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EF17-0035-4D8E-9E69-E929FE220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B2B3-BD70-4CDD-8CE6-F66C13268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8AEF-ECAD-4B6A-B5E8-1D78E7E58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3824-4B60-4880-9D10-07E8F0348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F2F3-711E-4449-B220-8757383E2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1E82-124A-4377-9DDE-8E7A74799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0B87-4BB4-402A-B021-B4B77829D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D250-5D06-4D25-9CB2-3166D2DCB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27C9-6D4E-4896-87E1-2E4E85F52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E283-90FE-433F-A7FA-CC25EA657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7CAF-2880-46B9-9302-54B20E6A4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EB4D-0685-4D1D-9473-D36AEB669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E616-3DD4-4D37-87B0-1EDA4FE23703}" type="slidenum">
              <a:rPr b="0" lang="en-GB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91DE-41DB-4E3A-8D96-443258F90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9792-B557-4BD5-B21B-1E6E9BEE16AC}" type="slidenum">
              <a:rPr b="0" lang="en-GB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07BE-A9A1-4C7E-89B6-2802F29D3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7EA5-064D-44E5-B144-6F0E79FBA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9CD8-8A22-4DEA-B7D0-37DA812B0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6980-9CF6-4A16-B047-E33EFA809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CB56-7268-48E8-A86B-9CFF9DA2F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76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3980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372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8176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3980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5640120"/>
            <a:ext cx="2590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805520" y="65221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IITA_large-sienna [Converted]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33520" y="1600200"/>
            <a:ext cx="799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stainable Intensification of Maize-Legumes-Livestock Farming Systems in Eastern and Souther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1066680" cy="1051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2667240" cy="1028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791320" y="380880"/>
            <a:ext cx="2743200" cy="5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1752480" y="4648320"/>
            <a:ext cx="1371600" cy="77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arm3.staticflickr.com/2709/buddyicons/44760652@N05.jpg?1258602442#44760652@N05"/>
          <p:cNvPicPr/>
          <p:nvPr/>
        </p:nvPicPr>
        <p:blipFill>
          <a:blip r:embed="rId5"/>
          <a:stretch/>
        </p:blipFill>
        <p:spPr>
          <a:xfrm>
            <a:off x="3733920" y="4724280"/>
            <a:ext cx="685800" cy="68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icrisat.org/who-we-are/about-us/about-images/icrisat-logo.jpg"/>
          <p:cNvPicPr/>
          <p:nvPr/>
        </p:nvPicPr>
        <p:blipFill>
          <a:blip r:embed="rId6"/>
          <a:stretch/>
        </p:blipFill>
        <p:spPr>
          <a:xfrm>
            <a:off x="7391520" y="4572000"/>
            <a:ext cx="1066680" cy="9208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3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1" descr="http://farm5.staticflickr.com/4054/4250446095_b7d8bac503_o.gif"/>
          <p:cNvPicPr/>
          <p:nvPr/>
        </p:nvPicPr>
        <p:blipFill>
          <a:blip r:embed="rId7"/>
          <a:stretch/>
        </p:blipFill>
        <p:spPr>
          <a:xfrm>
            <a:off x="380880" y="5627520"/>
            <a:ext cx="1524240" cy="87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ILRI Logo, square"/>
          <p:cNvPicPr/>
          <p:nvPr/>
        </p:nvPicPr>
        <p:blipFill>
          <a:blip r:embed="rId8"/>
          <a:stretch/>
        </p:blipFill>
        <p:spPr>
          <a:xfrm>
            <a:off x="4648320" y="571500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http://upload.wikimedia.org/wikipedia/commons/0/07/IFPRI_Logo.jpg"/>
          <p:cNvPicPr/>
          <p:nvPr/>
        </p:nvPicPr>
        <p:blipFill>
          <a:blip r:embed="rId9"/>
          <a:stretch/>
        </p:blipFill>
        <p:spPr>
          <a:xfrm>
            <a:off x="3048120" y="5715000"/>
            <a:ext cx="685800" cy="80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http://www.bunspace.com/static/groups/72/logo.jpg"/>
          <p:cNvPicPr/>
          <p:nvPr/>
        </p:nvPicPr>
        <p:blipFill>
          <a:blip r:embed="rId10"/>
          <a:stretch/>
        </p:blipFill>
        <p:spPr>
          <a:xfrm>
            <a:off x="6400800" y="571500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11"/>
          <a:stretch/>
        </p:blipFill>
        <p:spPr>
          <a:xfrm>
            <a:off x="5334120" y="4800600"/>
            <a:ext cx="13716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676520" y="22860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Crops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straints: farmers, extension, seed companies, agro-dealers, social pl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ed seed of improved varieties: availability, access and affordability/profitability,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factors: infertile soils, erratic rainfall, pests and diseases, weeds (striga); inorganic fertilizers;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personnel, methods (messages/m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zation: hand-hoe, ox plough, power ti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: efficiency, bargain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676520" y="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Crops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04920" y="114300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harvest management,  value addition (storage, process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: col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/access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(marketing grades and standards, variety registration, foundation seed,  input quality control, subsi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676520" y="1522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Livestock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0880" y="914400"/>
            <a:ext cx="8153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straints: farmers, extension,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eds: Access and affordability/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s (e.g. East Coast fever;  tick-borne (cattle); worms, foot rot, mange (goats): Lack of dips,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pasture/feed (drought sea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erinary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policies (marketing, land use, land ten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 Framework: Build on-going: Many ..e.g. A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6"/>
          <p:cNvGrpSpPr/>
          <p:nvPr/>
        </p:nvGrpSpPr>
        <p:grpSpPr>
          <a:xfrm>
            <a:off x="2057400" y="2630520"/>
            <a:ext cx="5638680" cy="2170080"/>
            <a:chOff x="2057400" y="2630520"/>
            <a:chExt cx="5638680" cy="2170080"/>
          </a:xfrm>
        </p:grpSpPr>
        <p:sp>
          <p:nvSpPr>
            <p:cNvPr id="153" name="TextBox 5"/>
            <p:cNvSpPr/>
            <p:nvPr/>
          </p:nvSpPr>
          <p:spPr>
            <a:xfrm>
              <a:off x="2666880" y="343764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0000"/>
                  </a:solidFill>
                  <a:latin typeface="Arial"/>
                </a:rPr>
                <a:t>Genotype X Environment X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15"/>
            <p:cNvGrpSpPr/>
            <p:nvPr/>
          </p:nvGrpSpPr>
          <p:grpSpPr>
            <a:xfrm>
              <a:off x="2057400" y="2630520"/>
              <a:ext cx="5638680" cy="2170080"/>
              <a:chOff x="2057400" y="2630520"/>
              <a:chExt cx="5638680" cy="2170080"/>
            </a:xfrm>
          </p:grpSpPr>
          <p:sp>
            <p:nvSpPr>
              <p:cNvPr id="155" name="Oval 5"/>
              <p:cNvSpPr/>
              <p:nvPr/>
            </p:nvSpPr>
            <p:spPr>
              <a:xfrm>
                <a:off x="2057400" y="2630520"/>
                <a:ext cx="5638680" cy="2170080"/>
              </a:xfrm>
              <a:prstGeom prst="ellipse">
                <a:avLst/>
              </a:prstGeom>
              <a:noFill/>
              <a:ln cap="sq"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32"/>
              <p:cNvSpPr/>
              <p:nvPr/>
            </p:nvSpPr>
            <p:spPr>
              <a:xfrm>
                <a:off x="3276360" y="2971800"/>
                <a:ext cx="299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ZA" sz="2400" spc="-1" strike="noStrike">
                    <a:solidFill>
                      <a:srgbClr val="000000"/>
                    </a:solidFill>
                    <a:latin typeface="Arial"/>
                  </a:rPr>
                  <a:t>Far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Group 17"/>
          <p:cNvGrpSpPr/>
          <p:nvPr/>
        </p:nvGrpSpPr>
        <p:grpSpPr>
          <a:xfrm>
            <a:off x="1371600" y="1828800"/>
            <a:ext cx="6781680" cy="4038480"/>
            <a:chOff x="1371600" y="1828800"/>
            <a:chExt cx="6781680" cy="4038480"/>
          </a:xfrm>
        </p:grpSpPr>
        <p:sp>
          <p:nvSpPr>
            <p:cNvPr id="158" name="Oval 5"/>
            <p:cNvSpPr/>
            <p:nvPr/>
          </p:nvSpPr>
          <p:spPr>
            <a:xfrm>
              <a:off x="1371600" y="1828800"/>
              <a:ext cx="6781680" cy="403848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4"/>
            <p:cNvSpPr/>
            <p:nvPr/>
          </p:nvSpPr>
          <p:spPr>
            <a:xfrm>
              <a:off x="3886200" y="22860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400" spc="-1" strike="noStrike">
                  <a:solidFill>
                    <a:srgbClr val="000000"/>
                  </a:solidFill>
                  <a:latin typeface="Arial"/>
                </a:rPr>
                <a:t>Landsca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9"/>
          <p:cNvGrpSpPr/>
          <p:nvPr/>
        </p:nvGrpSpPr>
        <p:grpSpPr>
          <a:xfrm>
            <a:off x="457200" y="1219320"/>
            <a:ext cx="8381880" cy="5333760"/>
            <a:chOff x="457200" y="1219320"/>
            <a:chExt cx="8381880" cy="5333760"/>
          </a:xfrm>
        </p:grpSpPr>
        <p:sp>
          <p:nvSpPr>
            <p:cNvPr id="161" name="Oval 5"/>
            <p:cNvSpPr/>
            <p:nvPr/>
          </p:nvSpPr>
          <p:spPr>
            <a:xfrm>
              <a:off x="457200" y="1219320"/>
              <a:ext cx="8381880" cy="533376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8"/>
            <p:cNvSpPr/>
            <p:nvPr/>
          </p:nvSpPr>
          <p:spPr>
            <a:xfrm>
              <a:off x="4114800" y="12952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8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: Build on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04920" y="762120"/>
            <a:ext cx="88390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 mapping, bas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evaluation of integrated best bets (RC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VC innovations to support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building: Farmers, extension, traders, government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9"/>
          <p:cNvGrpSpPr/>
          <p:nvPr/>
        </p:nvGrpSpPr>
        <p:grpSpPr>
          <a:xfrm>
            <a:off x="1447920" y="152280"/>
            <a:ext cx="6132240" cy="6400440"/>
            <a:chOff x="1447920" y="152280"/>
            <a:chExt cx="6132240" cy="6400440"/>
          </a:xfrm>
        </p:grpSpPr>
        <p:sp>
          <p:nvSpPr>
            <p:cNvPr id="166" name="Rectangle 30"/>
            <p:cNvSpPr/>
            <p:nvPr/>
          </p:nvSpPr>
          <p:spPr>
            <a:xfrm>
              <a:off x="2079720" y="152280"/>
              <a:ext cx="4684680" cy="49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1"/>
            <p:cNvSpPr/>
            <p:nvPr/>
          </p:nvSpPr>
          <p:spPr>
            <a:xfrm>
              <a:off x="1752840" y="2514600"/>
              <a:ext cx="5425200" cy="83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Outcomes: Change ag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(researchers, extension, NGOs, farmers' groups, agribusiness firms, traders, governmen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2"/>
            <p:cNvSpPr/>
            <p:nvPr/>
          </p:nvSpPr>
          <p:spPr>
            <a:xfrm>
              <a:off x="2666520" y="3809880"/>
              <a:ext cx="396216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Outcomes: Far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Awareness, adoption, efficiency, productivity, profita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3"/>
            <p:cNvSpPr/>
            <p:nvPr/>
          </p:nvSpPr>
          <p:spPr>
            <a:xfrm>
              <a:off x="2895120" y="5105520"/>
              <a:ext cx="388584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mpact: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food security, incomes, nutrition, poverty, N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4"/>
            <p:cNvSpPr/>
            <p:nvPr/>
          </p:nvSpPr>
          <p:spPr>
            <a:xfrm>
              <a:off x="1828440" y="5943600"/>
              <a:ext cx="518112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mpact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aggregate area, yield, production, productivity, incomes, pover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5"/>
            <p:cNvGrpSpPr/>
            <p:nvPr/>
          </p:nvGrpSpPr>
          <p:grpSpPr>
            <a:xfrm>
              <a:off x="1447920" y="856440"/>
              <a:ext cx="6132240" cy="1353240"/>
              <a:chOff x="1447920" y="856440"/>
              <a:chExt cx="6132240" cy="1353240"/>
            </a:xfrm>
          </p:grpSpPr>
          <p:sp>
            <p:nvSpPr>
              <p:cNvPr id="172" name="Text Box 36"/>
              <p:cNvSpPr/>
              <p:nvPr/>
            </p:nvSpPr>
            <p:spPr>
              <a:xfrm>
                <a:off x="1447920" y="856440"/>
                <a:ext cx="6132240" cy="135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Group 37"/>
              <p:cNvGrpSpPr/>
              <p:nvPr/>
            </p:nvGrpSpPr>
            <p:grpSpPr>
              <a:xfrm>
                <a:off x="1599840" y="914040"/>
                <a:ext cx="5790960" cy="1259280"/>
                <a:chOff x="1599840" y="914040"/>
                <a:chExt cx="5790960" cy="1259280"/>
              </a:xfrm>
            </p:grpSpPr>
            <p:sp>
              <p:nvSpPr>
                <p:cNvPr id="174" name="Text Box 38"/>
                <p:cNvSpPr/>
                <p:nvPr/>
              </p:nvSpPr>
              <p:spPr>
                <a:xfrm>
                  <a:off x="3885840" y="914040"/>
                  <a:ext cx="16758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Black"/>
                      <a:ea typeface="MS Mincho"/>
                    </a:rPr>
                    <a:t>Outpu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Group 39"/>
                <p:cNvGrpSpPr/>
                <p:nvPr/>
              </p:nvGrpSpPr>
              <p:grpSpPr>
                <a:xfrm>
                  <a:off x="1599840" y="914040"/>
                  <a:ext cx="5790960" cy="1259280"/>
                  <a:chOff x="1599840" y="914040"/>
                  <a:chExt cx="5790960" cy="1259280"/>
                </a:xfrm>
              </p:grpSpPr>
              <p:sp>
                <p:nvSpPr>
                  <p:cNvPr id="176" name="Text Box 40"/>
                  <p:cNvSpPr/>
                  <p:nvPr/>
                </p:nvSpPr>
                <p:spPr>
                  <a:xfrm>
                    <a:off x="1599840" y="914040"/>
                    <a:ext cx="2361960" cy="95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</a:rPr>
                      <a:t>Characterization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41"/>
                  <p:cNvSpPr/>
                  <p:nvPr/>
                </p:nvSpPr>
                <p:spPr>
                  <a:xfrm>
                    <a:off x="2590560" y="1599840"/>
                    <a:ext cx="2133360" cy="57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Production system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Text Box 42"/>
                  <p:cNvSpPr/>
                  <p:nvPr/>
                </p:nvSpPr>
                <p:spPr>
                  <a:xfrm>
                    <a:off x="3962520" y="1295280"/>
                    <a:ext cx="2209680" cy="38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Value chai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43"/>
                  <p:cNvSpPr/>
                  <p:nvPr/>
                </p:nvSpPr>
                <p:spPr>
                  <a:xfrm>
                    <a:off x="5774040" y="1179360"/>
                    <a:ext cx="1616760" cy="496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Up-scalin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cxnSp>
          <p:nvCxnSpPr>
            <p:cNvPr id="180" name="AutoShape 44"/>
            <p:cNvCxnSpPr/>
            <p:nvPr/>
          </p:nvCxnSpPr>
          <p:spPr>
            <a:xfrm flipH="1">
              <a:off x="4494960" y="228600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45"/>
            <p:cNvCxnSpPr/>
            <p:nvPr/>
          </p:nvCxnSpPr>
          <p:spPr>
            <a:xfrm flipH="1">
              <a:off x="4494960" y="3428640"/>
              <a:ext cx="1080" cy="30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AutoShape 46"/>
            <p:cNvCxnSpPr/>
            <p:nvPr/>
          </p:nvCxnSpPr>
          <p:spPr>
            <a:xfrm flipH="1">
              <a:off x="4494960" y="4876920"/>
              <a:ext cx="1080" cy="26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AutoShape 47"/>
            <p:cNvCxnSpPr/>
            <p:nvPr/>
          </p:nvCxnSpPr>
          <p:spPr>
            <a:xfrm>
              <a:off x="4571640" y="579132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AutoShape 48"/>
            <p:cNvCxnSpPr/>
            <p:nvPr/>
          </p:nvCxnSpPr>
          <p:spPr>
            <a:xfrm>
              <a:off x="4421520" y="65556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5" name="Rectangle 21"/>
          <p:cNvSpPr/>
          <p:nvPr/>
        </p:nvSpPr>
        <p:spPr>
          <a:xfrm>
            <a:off x="5782680" y="175248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MS Mincho"/>
              </a:rPr>
              <a:t>Capacity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MS Mincho"/>
              </a:rPr>
              <a:t>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48"/>
          <p:cNvCxnSpPr/>
          <p:nvPr/>
        </p:nvCxnSpPr>
        <p:spPr>
          <a:xfrm flipV="1">
            <a:off x="4571640" y="685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48"/>
          <p:cNvCxnSpPr/>
          <p:nvPr/>
        </p:nvCxnSpPr>
        <p:spPr>
          <a:xfrm flipV="1">
            <a:off x="4723920" y="2208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48"/>
          <p:cNvCxnSpPr/>
          <p:nvPr/>
        </p:nvCxnSpPr>
        <p:spPr>
          <a:xfrm flipV="1">
            <a:off x="4723920" y="34282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48"/>
          <p:cNvCxnSpPr/>
          <p:nvPr/>
        </p:nvCxnSpPr>
        <p:spPr>
          <a:xfrm flipV="1">
            <a:off x="4723920" y="4876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47"/>
          <p:cNvCxnSpPr/>
          <p:nvPr/>
        </p:nvCxnSpPr>
        <p:spPr>
          <a:xfrm flipV="1">
            <a:off x="4723920" y="57906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135"/>
          <p:cNvGrpSpPr/>
          <p:nvPr/>
        </p:nvGrpSpPr>
        <p:grpSpPr>
          <a:xfrm>
            <a:off x="6629040" y="399240"/>
            <a:ext cx="1180080" cy="5925240"/>
            <a:chOff x="6629040" y="399240"/>
            <a:chExt cx="1180080" cy="5925240"/>
          </a:xfrm>
        </p:grpSpPr>
        <p:grpSp>
          <p:nvGrpSpPr>
            <p:cNvPr id="192" name="Group 134"/>
            <p:cNvGrpSpPr/>
            <p:nvPr/>
          </p:nvGrpSpPr>
          <p:grpSpPr>
            <a:xfrm>
              <a:off x="6629040" y="1599120"/>
              <a:ext cx="1180080" cy="4725360"/>
              <a:chOff x="6629040" y="1599120"/>
              <a:chExt cx="1180080" cy="4725360"/>
            </a:xfrm>
          </p:grpSpPr>
          <p:cxnSp>
            <p:nvCxnSpPr>
              <p:cNvPr id="193" name="Shape 93"/>
              <p:cNvCxnSpPr/>
              <p:nvPr/>
            </p:nvCxnSpPr>
            <p:spPr>
              <a:xfrm flipH="1" flipV="1">
                <a:off x="6857640" y="5409720"/>
                <a:ext cx="152640" cy="915120"/>
              </a:xfrm>
              <a:prstGeom prst="curvedConnector5">
                <a:avLst>
                  <a:gd name="adj1" fmla="val -150354"/>
                  <a:gd name="adj2" fmla="val 30617"/>
                  <a:gd name="adj3" fmla="val -150354"/>
                </a:avLst>
              </a:prstGeom>
              <a:ln cap="sq" w="38160">
                <a:solidFill>
                  <a:srgbClr val="ff0000"/>
                </a:solidFill>
                <a:miter/>
                <a:tailEnd len="sm" type="triangle" w="sm"/>
              </a:ln>
            </p:spPr>
          </p:cxnSp>
          <p:cxnSp>
            <p:nvCxnSpPr>
              <p:cNvPr id="194" name="Shape 94"/>
              <p:cNvCxnSpPr/>
              <p:nvPr/>
            </p:nvCxnSpPr>
            <p:spPr>
              <a:xfrm flipH="1" flipV="1">
                <a:off x="6629040" y="4495320"/>
                <a:ext cx="152640" cy="915120"/>
              </a:xfrm>
              <a:prstGeom prst="curvedConnector5">
                <a:avLst>
                  <a:gd name="adj1" fmla="val -150354"/>
                  <a:gd name="adj2" fmla="val 33293"/>
                  <a:gd name="adj3" fmla="val -150354"/>
                </a:avLst>
              </a:prstGeom>
              <a:ln cap="sq" w="38160">
                <a:solidFill>
                  <a:srgbClr val="ff0000"/>
                </a:solidFill>
                <a:miter/>
                <a:tailEnd len="sm" type="triangle" w="sm"/>
              </a:ln>
            </p:spPr>
          </p:cxnSp>
          <p:cxnSp>
            <p:nvCxnSpPr>
              <p:cNvPr id="195" name="Shape 95"/>
              <p:cNvCxnSpPr/>
              <p:nvPr/>
            </p:nvCxnSpPr>
            <p:spPr>
              <a:xfrm flipH="1" flipV="1" rot="5400000">
                <a:off x="6613920" y="2300400"/>
                <a:ext cx="1667880" cy="265680"/>
              </a:xfrm>
              <a:prstGeom prst="curvedConnector5">
                <a:avLst>
                  <a:gd name="adj1" fmla="val 29706"/>
                  <a:gd name="adj2" fmla="val 93080"/>
                  <a:gd name="adj3" fmla="val 29706"/>
                </a:avLst>
              </a:prstGeom>
              <a:ln cap="sq" w="38160">
                <a:solidFill>
                  <a:srgbClr val="ff3300"/>
                </a:solidFill>
                <a:miter/>
                <a:tailEnd len="sm" type="triangle" w="sm"/>
              </a:ln>
            </p:spPr>
          </p:cxnSp>
          <p:cxnSp>
            <p:nvCxnSpPr>
              <p:cNvPr id="196" name="Shape 96"/>
              <p:cNvCxnSpPr/>
              <p:nvPr/>
            </p:nvCxnSpPr>
            <p:spPr>
              <a:xfrm flipH="1" flipV="1" rot="5400000">
                <a:off x="6323040" y="3656880"/>
                <a:ext cx="1296000" cy="533880"/>
              </a:xfrm>
              <a:prstGeom prst="curvedConnector5">
                <a:avLst>
                  <a:gd name="adj1" fmla="val 49986"/>
                  <a:gd name="adj2" fmla="val 50000"/>
                  <a:gd name="adj3" fmla="val 49986"/>
                </a:avLst>
              </a:prstGeom>
              <a:ln cap="sq" w="38160">
                <a:solidFill>
                  <a:srgbClr val="ff3300"/>
                </a:solidFill>
                <a:miter/>
                <a:tailEnd len="sm" type="triangle" w="sm"/>
              </a:ln>
            </p:spPr>
          </p:cxnSp>
        </p:grpSp>
        <p:cxnSp>
          <p:nvCxnSpPr>
            <p:cNvPr id="197" name="Shape 102"/>
            <p:cNvCxnSpPr>
              <a:stCxn id="172" idx="3"/>
              <a:endCxn id="166" idx="3"/>
            </p:cNvCxnSpPr>
            <p:nvPr/>
          </p:nvCxnSpPr>
          <p:spPr>
            <a:xfrm flipH="1" flipV="1">
              <a:off x="6764040" y="399240"/>
              <a:ext cx="816480" cy="1133640"/>
            </a:xfrm>
            <a:prstGeom prst="curvedConnector5">
              <a:avLst>
                <a:gd name="adj1" fmla="val -28010"/>
                <a:gd name="adj2" fmla="val 50000"/>
                <a:gd name="adj3" fmla="val -28010"/>
              </a:avLst>
            </a:prstGeom>
            <a:ln cap="sq" w="38160">
              <a:solidFill>
                <a:srgbClr val="ff3300"/>
              </a:solidFill>
              <a:miter/>
              <a:tailEnd len="sm" type="triangle" w="sm"/>
            </a:ln>
          </p:spPr>
        </p:cxnSp>
      </p:grpSp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6765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04920" y="91440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research products and development interventions generates synergies among market access, on-farm productivity and N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delivery of services to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adoption by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on outcomes of interest farm level (efficiency, yields, profits, 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on welfare (incomes, consumption, nutrition, health, gender, 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at aggregate level : spillo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828800" y="22860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rati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0948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rea: Diagnostics &amp; characterization &amp; gender; integration of components&amp; gender; value chains &amp; gender; scaling out &amp;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issues: Maize-legumes-vegetables; +livestock-tree-fodder; NRM-plant health; Scaling out (Gender cross cu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in continent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6765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04920" y="99072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s-based, multidisciplinary, multicentre, multi-stakeholder approach focusing on maize-legumes-livestock to improving livelihoods in FTF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to test, address multiple, interacting, multilevel constraints building on-going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research methods (R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impacts at large scale through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1905120" y="259092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0" y="1592280"/>
            <a:ext cx="1143000" cy="1125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0" y="3962520"/>
            <a:ext cx="1981080" cy="1218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http://farm3.staticflickr.com/2709/buddyicons/44760652@N05.jpg?1258602442#44760652@N05"/>
          <p:cNvPicPr/>
          <p:nvPr/>
        </p:nvPicPr>
        <p:blipFill>
          <a:blip r:embed="rId3"/>
          <a:stretch/>
        </p:blipFill>
        <p:spPr>
          <a:xfrm>
            <a:off x="7694640" y="2666880"/>
            <a:ext cx="1063440" cy="1067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http://www.icrisat.org/who-we-are/about-us/about-images/icrisat-logo.jpg"/>
          <p:cNvPicPr/>
          <p:nvPr/>
        </p:nvPicPr>
        <p:blipFill>
          <a:blip r:embed="rId4"/>
          <a:stretch/>
        </p:blipFill>
        <p:spPr>
          <a:xfrm>
            <a:off x="7445520" y="1371600"/>
            <a:ext cx="1393560" cy="812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http://farm5.staticflickr.com/4054/4250446095_b7d8bac503_o.gif"/>
          <p:cNvPicPr/>
          <p:nvPr/>
        </p:nvPicPr>
        <p:blipFill>
          <a:blip r:embed="rId5"/>
          <a:stretch/>
        </p:blipFill>
        <p:spPr>
          <a:xfrm>
            <a:off x="4572000" y="5443560"/>
            <a:ext cx="1981080" cy="1131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ILRI Logo, square"/>
          <p:cNvPicPr/>
          <p:nvPr/>
        </p:nvPicPr>
        <p:blipFill>
          <a:blip r:embed="rId6"/>
          <a:stretch/>
        </p:blipFill>
        <p:spPr>
          <a:xfrm>
            <a:off x="7753320" y="4191120"/>
            <a:ext cx="1162080" cy="97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7"/>
          <a:stretch/>
        </p:blipFill>
        <p:spPr>
          <a:xfrm>
            <a:off x="2209680" y="0"/>
            <a:ext cx="296244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8"/>
          <a:stretch/>
        </p:blipFill>
        <p:spPr>
          <a:xfrm>
            <a:off x="5562720" y="228600"/>
            <a:ext cx="3216240" cy="650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http://upload.wikimedia.org/wikipedia/commons/0/07/IFPRI_Logo.jpg"/>
          <p:cNvPicPr/>
          <p:nvPr/>
        </p:nvPicPr>
        <p:blipFill>
          <a:blip r:embed="rId9"/>
          <a:stretch/>
        </p:blipFill>
        <p:spPr>
          <a:xfrm>
            <a:off x="2971800" y="5621400"/>
            <a:ext cx="990720" cy="10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http://www.bunspace.com/static/groups/72/logo.jpg"/>
          <p:cNvPicPr/>
          <p:nvPr/>
        </p:nvPicPr>
        <p:blipFill>
          <a:blip r:embed="rId10"/>
          <a:stretch/>
        </p:blipFill>
        <p:spPr>
          <a:xfrm>
            <a:off x="7772400" y="563868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"/>
          <p:cNvPicPr/>
          <p:nvPr/>
        </p:nvPicPr>
        <p:blipFill>
          <a:blip r:embed="rId11"/>
          <a:stretch/>
        </p:blipFill>
        <p:spPr>
          <a:xfrm>
            <a:off x="228600" y="586728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3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3"/>
          <p:cNvSpPr/>
          <p:nvPr/>
        </p:nvSpPr>
        <p:spPr>
          <a:xfrm>
            <a:off x="3471840" y="3270240"/>
            <a:ext cx="5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5"/>
          <p:cNvSpPr/>
          <p:nvPr/>
        </p:nvSpPr>
        <p:spPr>
          <a:xfrm>
            <a:off x="1905120" y="228600"/>
            <a:ext cx="60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209680" y="1522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85800" y="990720"/>
            <a:ext cx="8001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09480" y="838080"/>
            <a:ext cx="85345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N: goals, objectives,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Geographic focus: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mpact pathway: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Operationalization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80880" y="160020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AID planning meeting for ESA,  Addis Ababa, 17-18 October 2011: research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put from researchers: Hombolo Agriculture Research Institu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d Nov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team e-mail exchange: end Nov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3"/>
          <p:cNvSpPr/>
          <p:nvPr/>
        </p:nvSpPr>
        <p:spPr>
          <a:xfrm>
            <a:off x="3471840" y="3270240"/>
            <a:ext cx="5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5"/>
          <p:cNvSpPr/>
          <p:nvPr/>
        </p:nvSpPr>
        <p:spPr>
          <a:xfrm>
            <a:off x="1905120" y="228600"/>
            <a:ext cx="60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09680" y="1522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85800" y="990720"/>
            <a:ext cx="8001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80880" y="914400"/>
            <a:ext cx="8458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F Tz reducing poverty &amp; improving nutrition key investments: Morogoro (rice); Manyara and Dodoma (maize); Arusha, Kilima, Tanga, Zan, Dar, Morogoro, Iringa, Mbeya (hor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F Global transformation of agricultural systems through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Proposed research links to CGIARs international research: CRP 1.1 and 1.2 integration of components for SI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search builds on SIML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828800" y="22860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oal,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0948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agric. productivity growth, economic growth, food production, food and nutrition security, NRM and reduce poverty:  in FtF areas (Gvt/CAA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productivity of maize-legume-livestock production systems, resilience and agro-ecosystem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: provisioning food/non-food; water; soil conservation, soil nutrient supply and cycling; soil health and structure; carbon sequestration; biodiversity;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762120"/>
            <a:ext cx="80773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diagnosis, characterization of agro-ecologies, farming systems, land use, gender, market; research priorities (O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options for assembling crop, agro-forestry, livestock technologies for SI (O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options for value chains, institutional, policy innovations for SI (farm-market) (O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ing and institutional/policy options for scaling up and out SI (village-district-region-national-neighbouring countries) (O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acity built (O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,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828800" y="30492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eographic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Dr. Rusike\AppData\Local\Microsoft\Windows\Temporary Internet Files\Content.IE5\193CPMWK\Farming system.png"/>
          <p:cNvPicPr/>
          <p:nvPr/>
        </p:nvPicPr>
        <p:blipFill>
          <a:blip r:embed="rId1"/>
          <a:stretch/>
        </p:blipFill>
        <p:spPr>
          <a:xfrm>
            <a:off x="1371600" y="831960"/>
            <a:ext cx="66294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Target Areas: Chronic Food Insecurity and Poverty with High-Growth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6326280" y="6529320"/>
            <a:ext cx="407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4F76-9724-4EF9-9E82-391E246072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286000" y="1844640"/>
            <a:ext cx="4282920" cy="435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0" y="1844640"/>
            <a:ext cx="4282920" cy="36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1"/>
          <p:cNvSpPr/>
          <p:nvPr/>
        </p:nvSpPr>
        <p:spPr>
          <a:xfrm>
            <a:off x="3524400" y="2560680"/>
            <a:ext cx="815760" cy="46188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"/>
          <p:cNvSpPr/>
          <p:nvPr/>
        </p:nvSpPr>
        <p:spPr>
          <a:xfrm>
            <a:off x="4879800" y="3112920"/>
            <a:ext cx="501840" cy="5526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3"/>
          <p:cNvSpPr/>
          <p:nvPr/>
        </p:nvSpPr>
        <p:spPr>
          <a:xfrm>
            <a:off x="4167360" y="2776680"/>
            <a:ext cx="1074600" cy="131436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4"/>
          <p:cNvSpPr/>
          <p:nvPr/>
        </p:nvSpPr>
        <p:spPr>
          <a:xfrm>
            <a:off x="4905360" y="3533760"/>
            <a:ext cx="716040" cy="5745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5"/>
          <p:cNvSpPr/>
          <p:nvPr/>
        </p:nvSpPr>
        <p:spPr>
          <a:xfrm>
            <a:off x="4853160" y="4686480"/>
            <a:ext cx="985680" cy="882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6"/>
          <p:cNvSpPr/>
          <p:nvPr/>
        </p:nvSpPr>
        <p:spPr>
          <a:xfrm>
            <a:off x="4110120" y="5213520"/>
            <a:ext cx="1165320" cy="6458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7"/>
          <p:cNvSpPr/>
          <p:nvPr/>
        </p:nvSpPr>
        <p:spPr>
          <a:xfrm>
            <a:off x="3851280" y="4367160"/>
            <a:ext cx="1058760" cy="112248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8"/>
          <p:cNvSpPr/>
          <p:nvPr/>
        </p:nvSpPr>
        <p:spPr>
          <a:xfrm>
            <a:off x="4348080" y="4048200"/>
            <a:ext cx="1062000" cy="126360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9"/>
          <p:cNvSpPr/>
          <p:nvPr/>
        </p:nvSpPr>
        <p:spPr>
          <a:xfrm>
            <a:off x="5156280" y="4048200"/>
            <a:ext cx="696960" cy="8078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0"/>
          <p:cNvSpPr/>
          <p:nvPr/>
        </p:nvSpPr>
        <p:spPr>
          <a:xfrm>
            <a:off x="4280040" y="3544920"/>
            <a:ext cx="625320" cy="98748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1"/>
          <p:cNvSpPr/>
          <p:nvPr/>
        </p:nvSpPr>
        <p:spPr>
          <a:xfrm>
            <a:off x="3759120" y="3424320"/>
            <a:ext cx="608040" cy="11444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2"/>
          <p:cNvSpPr/>
          <p:nvPr/>
        </p:nvSpPr>
        <p:spPr>
          <a:xfrm>
            <a:off x="2622600" y="3838680"/>
            <a:ext cx="906480" cy="12049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3"/>
          <p:cNvSpPr/>
          <p:nvPr/>
        </p:nvSpPr>
        <p:spPr>
          <a:xfrm>
            <a:off x="3201840" y="4371840"/>
            <a:ext cx="1054080" cy="8622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4"/>
          <p:cNvSpPr/>
          <p:nvPr/>
        </p:nvSpPr>
        <p:spPr>
          <a:xfrm>
            <a:off x="2416320" y="3121200"/>
            <a:ext cx="703080" cy="1233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5"/>
          <p:cNvSpPr/>
          <p:nvPr/>
        </p:nvSpPr>
        <p:spPr>
          <a:xfrm>
            <a:off x="2979720" y="3446640"/>
            <a:ext cx="1035000" cy="9619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6"/>
          <p:cNvSpPr/>
          <p:nvPr/>
        </p:nvSpPr>
        <p:spPr>
          <a:xfrm>
            <a:off x="3013200" y="2936880"/>
            <a:ext cx="1304640" cy="6890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7"/>
          <p:cNvSpPr/>
          <p:nvPr/>
        </p:nvSpPr>
        <p:spPr>
          <a:xfrm>
            <a:off x="2766960" y="2560680"/>
            <a:ext cx="757440" cy="7128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8"/>
          <p:cNvSpPr/>
          <p:nvPr/>
        </p:nvSpPr>
        <p:spPr>
          <a:xfrm>
            <a:off x="3201840" y="2701800"/>
            <a:ext cx="744840" cy="603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9"/>
          <p:cNvSpPr/>
          <p:nvPr/>
        </p:nvSpPr>
        <p:spPr>
          <a:xfrm>
            <a:off x="5251320" y="5335560"/>
            <a:ext cx="765360" cy="4237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0"/>
          <p:cNvSpPr/>
          <p:nvPr/>
        </p:nvSpPr>
        <p:spPr>
          <a:xfrm>
            <a:off x="5607000" y="3747960"/>
            <a:ext cx="227160" cy="497160"/>
          </a:xfrm>
          <a:prstGeom prst="pie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1"/>
          <p:cNvSpPr/>
          <p:nvPr/>
        </p:nvSpPr>
        <p:spPr>
          <a:xfrm>
            <a:off x="5583240" y="4295880"/>
            <a:ext cx="135000" cy="108000"/>
          </a:xfrm>
          <a:prstGeom prst="pie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5198400" y="3809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Tan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4738680" y="4280040"/>
            <a:ext cx="5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Morogo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305680" y="4475160"/>
            <a:ext cx="37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wan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4403880" y="403236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Dodo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704840" y="3616200"/>
            <a:ext cx="52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yar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5691240" y="3505320"/>
            <a:ext cx="58248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5722920" y="4011480"/>
            <a:ext cx="65556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nzib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5608800" y="4319640"/>
            <a:ext cx="66492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 Es Salaa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5676840" y="3641760"/>
            <a:ext cx="59688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5603760" y="4156200"/>
            <a:ext cx="66996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2"/>
          <p:cNvSpPr/>
          <p:nvPr/>
        </p:nvSpPr>
        <p:spPr>
          <a:xfrm>
            <a:off x="4167360" y="2776680"/>
            <a:ext cx="844200" cy="7585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5244120" y="3311640"/>
            <a:ext cx="62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imanja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4"/>
          <p:cNvSpPr/>
          <p:nvPr/>
        </p:nvSpPr>
        <p:spPr>
          <a:xfrm>
            <a:off x="3181320" y="2562120"/>
            <a:ext cx="768240" cy="559080"/>
          </a:xfrm>
          <a:prstGeom prst="pie">
            <a:avLst/>
          </a:pr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5"/>
          <p:cNvSpPr/>
          <p:nvPr/>
        </p:nvSpPr>
        <p:spPr>
          <a:xfrm>
            <a:off x="3591000" y="2825640"/>
            <a:ext cx="92160" cy="6984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6"/>
          <p:cNvSpPr/>
          <p:nvPr/>
        </p:nvSpPr>
        <p:spPr>
          <a:xfrm>
            <a:off x="3255840" y="2952720"/>
            <a:ext cx="63720" cy="4464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7"/>
          <p:cNvSpPr/>
          <p:nvPr/>
        </p:nvSpPr>
        <p:spPr>
          <a:xfrm>
            <a:off x="5664240" y="4378320"/>
            <a:ext cx="14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1"/>
          <p:cNvSpPr/>
          <p:nvPr/>
        </p:nvSpPr>
        <p:spPr>
          <a:xfrm>
            <a:off x="4341240" y="3002040"/>
            <a:ext cx="43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Arush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2" descr="MC900246191[1]"/>
          <p:cNvPicPr/>
          <p:nvPr/>
        </p:nvPicPr>
        <p:blipFill>
          <a:blip r:embed="rId1"/>
          <a:stretch/>
        </p:blipFill>
        <p:spPr>
          <a:xfrm>
            <a:off x="4592520" y="314172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3" descr="MC900246191[1]"/>
          <p:cNvPicPr/>
          <p:nvPr/>
        </p:nvPicPr>
        <p:blipFill>
          <a:blip r:embed="rId2"/>
          <a:stretch/>
        </p:blipFill>
        <p:spPr>
          <a:xfrm>
            <a:off x="5100480" y="329400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4" descr="MC900246191[1]"/>
          <p:cNvPicPr/>
          <p:nvPr/>
        </p:nvPicPr>
        <p:blipFill>
          <a:blip r:embed="rId3"/>
          <a:stretch/>
        </p:blipFill>
        <p:spPr>
          <a:xfrm>
            <a:off x="4950000" y="4133880"/>
            <a:ext cx="145800" cy="20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5" descr="MC900246191[1]"/>
          <p:cNvPicPr/>
          <p:nvPr/>
        </p:nvPicPr>
        <p:blipFill>
          <a:blip r:embed="rId4"/>
          <a:stretch/>
        </p:blipFill>
        <p:spPr>
          <a:xfrm>
            <a:off x="5756400" y="3863880"/>
            <a:ext cx="145800" cy="20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6" descr="MC900246191[1]"/>
          <p:cNvPicPr/>
          <p:nvPr/>
        </p:nvPicPr>
        <p:blipFill>
          <a:blip r:embed="rId5"/>
          <a:stretch/>
        </p:blipFill>
        <p:spPr>
          <a:xfrm>
            <a:off x="5433840" y="358452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7" descr="MC900246191[1]"/>
          <p:cNvPicPr/>
          <p:nvPr/>
        </p:nvPicPr>
        <p:blipFill>
          <a:blip r:embed="rId6"/>
          <a:stretch/>
        </p:blipFill>
        <p:spPr>
          <a:xfrm>
            <a:off x="5487840" y="4232160"/>
            <a:ext cx="146160" cy="2095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58"/>
          <p:cNvGrpSpPr/>
          <p:nvPr/>
        </p:nvGrpSpPr>
        <p:grpSpPr>
          <a:xfrm>
            <a:off x="4851360" y="2311560"/>
            <a:ext cx="1662120" cy="152640"/>
            <a:chOff x="4851360" y="2311560"/>
            <a:chExt cx="1662120" cy="152640"/>
          </a:xfrm>
        </p:grpSpPr>
        <p:sp>
          <p:nvSpPr>
            <p:cNvPr id="129" name="Legend1"/>
            <p:cNvSpPr/>
            <p:nvPr/>
          </p:nvSpPr>
          <p:spPr>
            <a:xfrm>
              <a:off x="5097240" y="2311560"/>
              <a:ext cx="141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egendRectangle1"/>
            <p:cNvSpPr/>
            <p:nvPr/>
          </p:nvSpPr>
          <p:spPr>
            <a:xfrm>
              <a:off x="4851360" y="2311560"/>
              <a:ext cx="150840" cy="146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61"/>
          <p:cNvGrpSpPr/>
          <p:nvPr/>
        </p:nvGrpSpPr>
        <p:grpSpPr>
          <a:xfrm>
            <a:off x="4844880" y="2540160"/>
            <a:ext cx="1662120" cy="152640"/>
            <a:chOff x="4844880" y="2540160"/>
            <a:chExt cx="1662120" cy="152640"/>
          </a:xfrm>
        </p:grpSpPr>
        <p:sp>
          <p:nvSpPr>
            <p:cNvPr id="132" name="Legend1"/>
            <p:cNvSpPr/>
            <p:nvPr/>
          </p:nvSpPr>
          <p:spPr>
            <a:xfrm>
              <a:off x="5090760" y="2540160"/>
              <a:ext cx="141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egendRectangle1"/>
            <p:cNvSpPr/>
            <p:nvPr/>
          </p:nvSpPr>
          <p:spPr>
            <a:xfrm>
              <a:off x="4844880" y="2540160"/>
              <a:ext cx="150840" cy="146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64"/>
          <p:cNvGrpSpPr/>
          <p:nvPr/>
        </p:nvGrpSpPr>
        <p:grpSpPr>
          <a:xfrm>
            <a:off x="4824360" y="2752560"/>
            <a:ext cx="1662120" cy="152640"/>
            <a:chOff x="4824360" y="2752560"/>
            <a:chExt cx="1662120" cy="152640"/>
          </a:xfrm>
        </p:grpSpPr>
        <p:sp>
          <p:nvSpPr>
            <p:cNvPr id="135" name="Legend1"/>
            <p:cNvSpPr/>
            <p:nvPr/>
          </p:nvSpPr>
          <p:spPr>
            <a:xfrm>
              <a:off x="5070240" y="2752560"/>
              <a:ext cx="141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rti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egendRectangle1"/>
            <p:cNvSpPr/>
            <p:nvPr/>
          </p:nvSpPr>
          <p:spPr>
            <a:xfrm>
              <a:off x="4824360" y="2752560"/>
              <a:ext cx="150840" cy="14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67" descr="MC900246191[1]"/>
          <p:cNvPicPr/>
          <p:nvPr/>
        </p:nvPicPr>
        <p:blipFill>
          <a:blip r:embed="rId7"/>
          <a:stretch/>
        </p:blipFill>
        <p:spPr>
          <a:xfrm>
            <a:off x="4840200" y="273384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8" descr="MC900246191[1]"/>
          <p:cNvPicPr/>
          <p:nvPr/>
        </p:nvPicPr>
        <p:blipFill>
          <a:blip r:embed="rId8"/>
          <a:stretch/>
        </p:blipFill>
        <p:spPr>
          <a:xfrm>
            <a:off x="4327560" y="447984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9" descr="MC900246191[1]"/>
          <p:cNvPicPr/>
          <p:nvPr/>
        </p:nvPicPr>
        <p:blipFill>
          <a:blip r:embed="rId9"/>
          <a:stretch/>
        </p:blipFill>
        <p:spPr>
          <a:xfrm>
            <a:off x="3598920" y="4633920"/>
            <a:ext cx="146160" cy="209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0"/>
          <p:cNvSpPr/>
          <p:nvPr/>
        </p:nvSpPr>
        <p:spPr>
          <a:xfrm>
            <a:off x="4145040" y="4770360"/>
            <a:ext cx="6271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1"/>
          <p:cNvSpPr/>
          <p:nvPr/>
        </p:nvSpPr>
        <p:spPr>
          <a:xfrm>
            <a:off x="3501720" y="483084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Mbey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2"/>
          <p:cNvSpPr/>
          <p:nvPr/>
        </p:nvSpPr>
        <p:spPr>
          <a:xfrm>
            <a:off x="4071600" y="47228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Iring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ops and live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80880" y="99072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ze in 3 zones (sorghum, millets, cassava, sweet potatoes, potatoes, rice); sunflower, simsim (cash cro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umes: pigeon pea, groundnuts, cowpeas, beans, soybeans; (lab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s: tomatoes, onions, indigenous veg., gar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stock: cattle (dairy); goats (dairy); poultry; (sheep, pi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4:08:11Z</dcterms:created>
  <dc:creator>gbright</dc:creator>
  <dc:description/>
  <dc:language>en-US</dc:language>
  <cp:lastModifiedBy>Neema Lazaro</cp:lastModifiedBy>
  <dcterms:modified xsi:type="dcterms:W3CDTF">2012-02-06T12:27:43Z</dcterms:modified>
  <cp:revision>632</cp:revision>
  <dc:subject/>
  <dc:title>Slide 1</dc:title>
</cp:coreProperties>
</file>